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44040"/>
        <c:axId val="72533650"/>
      </c:barChart>
      <c:catAx>
        <c:axId val="93044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33650"/>
        <c:crosses val="autoZero"/>
        <c:auto val="1"/>
        <c:lblAlgn val="ctr"/>
        <c:lblOffset val="100"/>
        <c:noMultiLvlLbl val="0"/>
      </c:catAx>
      <c:valAx>
        <c:axId val="72533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44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C13-8FCC-4193-AAF0-F49CA796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2DB-114D-4CDB-899B-F111123C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024-3F7F-41CC-8164-900FAB84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876-C4A2-4983-B491-F16C438F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2A7-1A1F-4910-B2C4-57E0DDC7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EDE-9E56-4537-AF23-388E807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792-78C6-4921-B707-7D2D2D4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3AC-23C6-4876-81EB-EBCE8B8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BCC-ED8F-4156-90ED-79E30F9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A3D-A7B5-47D7-83CF-DABF3C20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AE2-342D-44A1-96F6-F25782A2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5AD-8429-43F4-87FC-200A0A0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A399F-DDAC-4EE4-AD96-9BB87C9AFC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