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48619"/>
        <c:axId val="5407979"/>
      </c:barChart>
      <c:catAx>
        <c:axId val="99248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7979"/>
        <c:crosses val="autoZero"/>
        <c:auto val="1"/>
        <c:lblAlgn val="ctr"/>
        <c:lblOffset val="100"/>
        <c:noMultiLvlLbl val="0"/>
      </c:catAx>
      <c:valAx>
        <c:axId val="5407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48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3BA-74D7-44E0-9B69-D2E3D948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C0C-D291-4C41-B54F-71B4F736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A20-4204-48C1-9A6C-F0405953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AD6-4F08-4137-8DF5-8CF7ED75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98B-483D-4805-8618-2E3D1262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BA0-9432-4275-825F-98B2AC32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529-CA0F-4C3F-B0EE-AAA1C133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A3A-0984-4EBE-AAB7-230EF711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C95-327B-4AB6-806F-937821B4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748-3D96-4AD4-975D-0343298E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08D-0BFD-4B5D-90AE-CBE9C5C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C29-D6BC-4FA4-92A0-A3511594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C7ED8-FAF7-4D73-8A2C-82DD8A832D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