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60615"/>
        <c:axId val="17175965"/>
      </c:barChart>
      <c:catAx>
        <c:axId val="52260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75965"/>
        <c:crosses val="autoZero"/>
        <c:auto val="1"/>
        <c:lblAlgn val="ctr"/>
        <c:lblOffset val="100"/>
        <c:noMultiLvlLbl val="0"/>
      </c:catAx>
      <c:valAx>
        <c:axId val="17175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60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A59-8AA7-4C6D-94B6-189B9D4A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CE7-4B62-4089-B97F-54C51331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FD0-8F86-45A0-A3FC-FE09E6F4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166-1F5E-4816-A983-8AE279FE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1E40-FA01-4363-BEA9-E93D7898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BAE-DD07-43CF-BCEC-EFD6F903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91FA-061C-43B1-A142-93853532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E1E-567D-425D-B142-D3F7646F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3B5-9820-4110-B1CF-CE953C2D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45B3-4C8D-41A1-A2C8-10DF93F7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329-1FF9-4355-9728-AC9B3615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41E-775E-4452-9A76-216A0F76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C6C81-6BB4-4BAC-95D8-EF8BE6DD31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