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3387"/>
        <c:axId val="59351984"/>
      </c:barChart>
      <c:catAx>
        <c:axId val="33603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51984"/>
        <c:crosses val="autoZero"/>
        <c:auto val="1"/>
        <c:lblAlgn val="ctr"/>
        <c:lblOffset val="100"/>
        <c:noMultiLvlLbl val="0"/>
      </c:catAx>
      <c:valAx>
        <c:axId val="59351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3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751-17E6-43DC-9B97-053A25C7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CB9-82AD-4143-A0DB-8C5DC071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0DD-6502-4D79-B97F-C1006E37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DDC-6D17-4118-A8B4-3874FE44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0BE-3936-405A-9881-C643CA8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D5E-49AD-4770-87AA-6B6AD02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146-FF2A-427F-ADDA-ECF61D0F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EB1-A819-4391-B9BD-01559986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A6B-9A13-4D3D-89AD-81B1485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C91-2BB5-4454-9965-F04B782A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522-21A2-4D48-B664-1500C46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E5F-6622-4F6E-B982-D1635358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B32D-6569-4F94-8DE8-3D88E004D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