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41066"/>
        <c:axId val="6582563"/>
      </c:barChart>
      <c:catAx>
        <c:axId val="60041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2563"/>
        <c:crosses val="autoZero"/>
        <c:auto val="1"/>
        <c:lblAlgn val="ctr"/>
        <c:lblOffset val="100"/>
        <c:noMultiLvlLbl val="0"/>
      </c:catAx>
      <c:valAx>
        <c:axId val="65825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41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0BE-F8A3-4E3E-A984-FB0C546E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1411-AEE2-42D3-87E1-4C00FC58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63B-9C9F-4706-B0ED-EDE115AB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6334-CBC0-4A61-A39C-ADDA40E5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BFF-1664-46E0-A490-FC02938C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FD0-28CE-40FD-8556-B9337550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F78-BA10-4BAB-8A90-30C5467A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212-911E-4FE1-9AC7-7DD08521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F87-CC47-4023-A1C1-21F42357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83E8-7A50-4A1C-B9E9-EDDE35DF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191-AE33-44B1-9D01-58FF5A66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529-84DF-464B-9CAB-142CF32E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78B14-F9AB-45C3-82F4-5EE6C15951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