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1381"/>
        <c:axId val="47841367"/>
      </c:barChart>
      <c:catAx>
        <c:axId val="4461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41367"/>
        <c:crosses val="autoZero"/>
        <c:auto val="1"/>
        <c:lblAlgn val="ctr"/>
        <c:lblOffset val="100"/>
        <c:noMultiLvlLbl val="0"/>
      </c:catAx>
      <c:valAx>
        <c:axId val="47841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1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A16-455C-4AD8-8F2A-CA8F4DCB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50D-D90E-4EF3-97B6-50A14516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750-FB05-4B13-AEF0-598126A5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2BD-5280-4C84-8DF5-297B9687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AC7-2D6C-4176-A825-76A54BC2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07F-FB2A-435D-8F10-10F21664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48D-2826-44CF-8754-A18769AF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DAB-217A-4C85-B028-AA09489E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D37-3B40-4720-B297-E76E6BFB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09E-B42D-46C5-8723-024E6F18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BF4-2841-424B-A2A5-23BC71A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74D-09A6-4CC5-8F47-FC0039F7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EEA20-4765-4EFF-82D5-DA8CEAD18E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