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1247"/>
        <c:axId val="99458853"/>
      </c:barChart>
      <c:catAx>
        <c:axId val="31671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8853"/>
        <c:crosses val="autoZero"/>
        <c:auto val="1"/>
        <c:lblAlgn val="ctr"/>
        <c:lblOffset val="100"/>
        <c:noMultiLvlLbl val="0"/>
      </c:catAx>
      <c:valAx>
        <c:axId val="99458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1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D1D-C1D6-4B43-9906-173F7AA4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B30-97E2-404F-B2FF-6E7A8B34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E73-3EB2-48E5-BF84-5CB42DB2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842-21EE-497F-9F82-DD03DD83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C7B-18F5-4C58-8763-603CB20E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8A8-C314-4086-99B4-BFCED2A9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385-F87B-483B-B720-A4770C8B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B1A-983F-497C-A30C-0B409CB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F5A-8BC2-4C55-ADEE-F2A4327D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A43-8DE1-4DBB-B7D3-752E97C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917-7315-449E-93E5-F21CF02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A08-095D-407A-8E1A-687C2EF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F76D1-9EB3-4431-BD45-BD93E31E6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