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4610"/>
        <c:axId val="90573233"/>
      </c:barChart>
      <c:catAx>
        <c:axId val="6064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73233"/>
        <c:crosses val="autoZero"/>
        <c:auto val="1"/>
        <c:lblAlgn val="ctr"/>
        <c:lblOffset val="100"/>
        <c:noMultiLvlLbl val="0"/>
      </c:catAx>
      <c:valAx>
        <c:axId val="90573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4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A66-3654-4E76-BE50-5EEE4EC4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7A8-C423-4256-918F-650EEFF6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CCD-5514-49CA-B29F-53D855E4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227-7CA0-47D5-8EE1-B3E327FC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4F3-61D4-4F4F-8055-8ADE128D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8CF-B9F7-407F-82BA-C342F759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9B7-C9FE-4EF1-B5CE-30F57EE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28A-68CF-44B4-A7B7-57680D02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843-6D12-4BEB-9EDE-31E5B206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4EA-3D91-4725-83C3-78197DF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B5D-E9C2-4D2E-986E-BB86D979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DA0-AF36-4C53-89AD-20ACA95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782E7-68AD-40B6-A7DD-A8A1C3FB2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