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624827"/>
        <c:axId val="11199198"/>
      </c:barChart>
      <c:catAx>
        <c:axId val="416248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99198"/>
        <c:crosses val="autoZero"/>
        <c:auto val="1"/>
        <c:lblAlgn val="ctr"/>
        <c:lblOffset val="100"/>
        <c:noMultiLvlLbl val="0"/>
      </c:catAx>
      <c:valAx>
        <c:axId val="111991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248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EB96-B576-405A-9424-62C973DA5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6168-5B65-402C-9947-A7BF9096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7D08-6796-4DDF-A300-D1FEB38DA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F1D4-EFA0-4CE0-AF93-8EEFE70F5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DF72-AE06-4114-B4EA-2E15F87A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B205-B158-4476-AD0E-0DA7E0E3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6B06-6459-42EB-99ED-508785A9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BF91-2B2A-4679-9C39-987D7656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8A62-886C-49D3-8747-39FEB4EF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398C-5BB0-4245-A417-AC7E883B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E93B-7FED-4738-B811-5EE48645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AAD5-21C2-4092-8093-6C5C839C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02022E-9E1F-4769-B664-5583C7E6F0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