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79195"/>
        <c:axId val="12326616"/>
      </c:barChart>
      <c:catAx>
        <c:axId val="153791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26616"/>
        <c:crosses val="autoZero"/>
        <c:auto val="1"/>
        <c:lblAlgn val="ctr"/>
        <c:lblOffset val="100"/>
        <c:noMultiLvlLbl val="0"/>
      </c:catAx>
      <c:valAx>
        <c:axId val="123266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791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886-2126-47CB-9CDC-2A1A2EA7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24A8-B3DE-4DC0-BEBB-14EBDBC0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89E-9549-4211-8F45-AF06C65C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F6FA-D57F-4AD1-8006-B494877B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5973-7A37-4B07-AAB2-C6A51ACF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B89-857D-46F8-9E4C-8E58F4E7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1E0-BF38-47AD-9E45-63EC74F2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A78-63EF-4F15-A6E9-B4C72A1F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888-99BB-4728-862B-1692CE68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981-E09B-4DAD-9606-E3F5FE57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0DB-FAB9-471F-A284-09A0FAA4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27E-849D-4CE9-AA3D-2AFCC3DF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8991C-7AC2-4C86-A7D3-7B6EBB81E8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