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3056"/>
        <c:axId val="99424814"/>
      </c:barChart>
      <c:catAx>
        <c:axId val="8633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24814"/>
        <c:crosses val="autoZero"/>
        <c:auto val="1"/>
        <c:lblAlgn val="ctr"/>
        <c:lblOffset val="100"/>
        <c:noMultiLvlLbl val="0"/>
      </c:catAx>
      <c:valAx>
        <c:axId val="99424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3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DCC-47EB-4537-92CE-C375628C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91A-6A32-4D05-B00C-295F69A5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51F-98D9-458D-9A72-B7941A7A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DC7-A101-42E2-9B9E-8268DFDD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155-F423-431C-B11F-057D4EF8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1F0-F75C-4FF1-BADC-1C768F94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0B5-A96A-40E2-B532-A84DA7B2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F9B-C3B1-4086-987D-F2C6B917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CF0-6771-4D4A-8148-2A927BA6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5A6-C3D0-4F64-86B9-F5D746CB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B1A-07A5-4FDB-BB0F-2EA1FAD3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393-D397-48C1-9CF2-3774A351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F44AA-2C42-4A4A-A5E5-1365416D35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