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56051"/>
        <c:axId val="51783693"/>
      </c:barChart>
      <c:catAx>
        <c:axId val="34656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83693"/>
        <c:crosses val="autoZero"/>
        <c:auto val="1"/>
        <c:lblAlgn val="ctr"/>
        <c:lblOffset val="100"/>
        <c:noMultiLvlLbl val="0"/>
      </c:catAx>
      <c:valAx>
        <c:axId val="51783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6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028-F31E-4401-B813-EEBF894F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9FE-9A77-4388-9B4A-9CC36673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F29-1A16-4BD5-95AF-65F80A3C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2B0-2A5D-47AB-AB8F-EE26EB31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AE8-CB51-4AEF-9596-F2C133A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BFB-F54E-482F-990C-6F650F3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CCC-B006-4E75-B794-3FAC8AC1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1E8-91B1-490E-9CA4-1B78DA3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D6C-BE72-4EE2-B502-FE7E5B63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F12-BB73-4635-A897-C2FDA72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37E-5C6E-4A03-BC1F-0C1CA75B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4DC-4F11-4264-B22B-A0EA7E6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D9610-2830-4F8A-AA85-B41E001D75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