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964293"/>
        <c:axId val="94212839"/>
      </c:barChart>
      <c:catAx>
        <c:axId val="229642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12839"/>
        <c:crosses val="autoZero"/>
        <c:auto val="1"/>
        <c:lblAlgn val="ctr"/>
        <c:lblOffset val="100"/>
        <c:noMultiLvlLbl val="0"/>
      </c:catAx>
      <c:valAx>
        <c:axId val="942128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642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8605-6F08-483C-923F-574740AE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E50E-9D97-492E-BF6E-10962483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1EDC-FF1A-4618-A7AC-273230C3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9C66-DCCB-4525-B0E4-4BDFA70E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369A-D3AD-4994-8A2C-20651476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0927-955D-45F5-AE88-345E5134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5ACE-5DEB-4AFA-9C76-3567B4F7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5C95-E400-40EA-8D0D-29A40289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9921-01A1-4160-9790-4BC469D6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CBBD-5421-4C09-AD6F-D3666299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0701-5F68-418D-BB93-14B3EA91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C04A-F85F-43E0-80DA-ACA627FD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FBA35-E7F3-43BF-9C46-397E6FC651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